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1DFC-95F6-4A41-8101-B149FDBE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280E-421A-4BA9-980E-3CBF4AFF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357A-54FD-4C0B-9670-2A9EC1382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60AF-09BF-43E6-8780-AA0471CE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7F4F-6766-461D-825F-85B5B8AD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6B41-C069-471C-841E-EE881613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3562-C782-4A35-A9AA-1BE64F11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F758-C84C-4AFC-A5A4-8DA862E5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9CA0-1604-4C3A-AFAC-87155F50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1342-6707-46F0-9386-D1E5C5A1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B2CB-535F-48E6-BDAF-4A88F627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9ADE-C22B-4DF4-898B-6C867A66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3ED0-0E9A-4EFE-BDDB-C3066DC77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bienesc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04920" y="0"/>
            <a:ext cx="36558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 u="sng">
                <a:solidFill>
                  <a:srgbClr val="808080"/>
                </a:solidFill>
                <a:uFillTx/>
                <a:latin typeface="Times New Roman"/>
              </a:rPr>
              <a:t>Swarm Archite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971800" y="2819520"/>
            <a:ext cx="5486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Nestbausimu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staatenbild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Insek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808080"/>
                </a:solidFill>
                <a:uFillTx/>
                <a:latin typeface="Times New Roman"/>
              </a:rPr>
              <a:t>Regelinterpre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371600" y="1828800"/>
          <a:ext cx="3416400" cy="304920"/>
        </p:xfrm>
        <a:graphic>
          <a:graphicData uri="http://schemas.openxmlformats.org/drawingml/2006/table">
            <a:tbl>
              <a:tblPr/>
              <a:tblGrid>
                <a:gridCol w="414360"/>
                <a:gridCol w="414360"/>
                <a:gridCol w="414360"/>
                <a:gridCol w="465120"/>
                <a:gridCol w="465120"/>
                <a:gridCol w="414360"/>
                <a:gridCol w="414360"/>
                <a:gridCol w="414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187" name=""/>
          <p:cNvGrpSpPr/>
          <p:nvPr/>
        </p:nvGrpSpPr>
        <p:grpSpPr>
          <a:xfrm>
            <a:off x="1371600" y="2209680"/>
            <a:ext cx="3416400" cy="304920"/>
            <a:chOff x="1371600" y="2209680"/>
            <a:chExt cx="3416400" cy="304920"/>
          </a:xfrm>
        </p:grpSpPr>
        <p:sp>
          <p:nvSpPr>
            <p:cNvPr id="188" name=""/>
            <p:cNvSpPr/>
            <p:nvPr/>
          </p:nvSpPr>
          <p:spPr>
            <a:xfrm>
              <a:off x="2614680" y="2209680"/>
              <a:ext cx="465120" cy="3049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59280" y="2209680"/>
              <a:ext cx="414360" cy="304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44920" y="2209680"/>
              <a:ext cx="414360" cy="3049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73640" y="2209680"/>
              <a:ext cx="414360" cy="304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79800" y="2209680"/>
              <a:ext cx="465120" cy="3049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00320" y="2209680"/>
              <a:ext cx="414360" cy="3049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85960" y="2209680"/>
              <a:ext cx="414360" cy="3049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71600" y="2209680"/>
              <a:ext cx="414360" cy="3049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600" y="2209680"/>
              <a:ext cx="3416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2514600"/>
              <a:ext cx="3416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71600" y="2209680"/>
              <a:ext cx="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88000" y="2209680"/>
              <a:ext cx="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85960" y="2209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00320" y="2209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14680" y="2209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44920" y="2209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59280" y="2209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73640" y="2209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79800" y="2209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7467480" y="1447920"/>
            <a:ext cx="228600" cy="2286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91320" y="2209680"/>
            <a:ext cx="228600" cy="22860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2590920"/>
            <a:ext cx="228600" cy="22860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19920" y="4495680"/>
            <a:ext cx="228600" cy="22860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5880" y="3048120"/>
            <a:ext cx="228600" cy="22860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5000" y="4114800"/>
            <a:ext cx="228600" cy="22860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2209680"/>
            <a:ext cx="228600" cy="22860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67480" y="4495680"/>
            <a:ext cx="228600" cy="22860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62920" y="4114800"/>
            <a:ext cx="228600" cy="22860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162920" y="2590920"/>
            <a:ext cx="228600" cy="22860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467480" y="3048120"/>
            <a:ext cx="228600" cy="22860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019560" y="1676520"/>
            <a:ext cx="14475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0120" y="1676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19920" y="24382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4852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943240" y="39625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43600" y="43434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91520" y="3505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3505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391160" y="24382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91520" y="281952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91520" y="434340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7391160" y="39625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371600" y="3048120"/>
            <a:ext cx="3416400" cy="304560"/>
            <a:chOff x="1371600" y="3048120"/>
            <a:chExt cx="3416400" cy="304560"/>
          </a:xfrm>
        </p:grpSpPr>
        <p:sp>
          <p:nvSpPr>
            <p:cNvPr id="231" name=""/>
            <p:cNvSpPr/>
            <p:nvPr/>
          </p:nvSpPr>
          <p:spPr>
            <a:xfrm>
              <a:off x="2614680" y="3048120"/>
              <a:ext cx="465120" cy="30456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59280" y="3048120"/>
              <a:ext cx="414360" cy="30456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44920" y="3048120"/>
              <a:ext cx="414360" cy="30456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73640" y="3048120"/>
              <a:ext cx="414360" cy="30456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79800" y="3048120"/>
              <a:ext cx="465120" cy="30456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00320" y="3048120"/>
              <a:ext cx="414360" cy="30456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785960" y="3048120"/>
              <a:ext cx="414360" cy="30456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71600" y="3048120"/>
              <a:ext cx="414360" cy="30456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71600" y="3048120"/>
              <a:ext cx="3416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71600" y="3352680"/>
              <a:ext cx="3416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71600" y="3048120"/>
              <a:ext cx="0" cy="304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88000" y="3048120"/>
              <a:ext cx="0" cy="304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85960" y="3048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00320" y="3048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14680" y="3048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44920" y="3048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59280" y="3048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73640" y="3048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79800" y="3048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2666880" y="26668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5715000" y="5181480"/>
          <a:ext cx="828720" cy="304920"/>
        </p:xfrm>
        <a:graphic>
          <a:graphicData uri="http://schemas.openxmlformats.org/drawingml/2006/table">
            <a:tbl>
              <a:tblPr/>
              <a:tblGrid>
                <a:gridCol w="414360"/>
                <a:gridCol w="414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5715000" y="5562720"/>
          <a:ext cx="828720" cy="304560"/>
        </p:xfrm>
        <a:graphic>
          <a:graphicData uri="http://schemas.openxmlformats.org/drawingml/2006/table">
            <a:tbl>
              <a:tblPr/>
              <a:tblGrid>
                <a:gridCol w="414360"/>
                <a:gridCol w="414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7162920" y="5181480"/>
          <a:ext cx="828720" cy="304920"/>
        </p:xfrm>
        <a:graphic>
          <a:graphicData uri="http://schemas.openxmlformats.org/drawingml/2006/table">
            <a:tbl>
              <a:tblPr/>
              <a:tblGrid>
                <a:gridCol w="414360"/>
                <a:gridCol w="414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617220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012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371600" y="1828800"/>
          <a:ext cx="414360" cy="304920"/>
        </p:xfrm>
        <a:graphic>
          <a:graphicData uri="http://schemas.openxmlformats.org/drawingml/2006/table">
            <a:tbl>
              <a:tblPr/>
              <a:tblGrid>
                <a:gridCol w="414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1371600" y="1828800"/>
          <a:ext cx="828720" cy="304920"/>
        </p:xfrm>
        <a:graphic>
          <a:graphicData uri="http://schemas.openxmlformats.org/drawingml/2006/table">
            <a:tbl>
              <a:tblPr/>
              <a:tblGrid>
                <a:gridCol w="414360"/>
                <a:gridCol w="414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1371600" y="1828800"/>
          <a:ext cx="1708200" cy="304920"/>
        </p:xfrm>
        <a:graphic>
          <a:graphicData uri="http://schemas.openxmlformats.org/drawingml/2006/table">
            <a:tbl>
              <a:tblPr/>
              <a:tblGrid>
                <a:gridCol w="414360"/>
                <a:gridCol w="414360"/>
                <a:gridCol w="414360"/>
                <a:gridCol w="4651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1371600" y="1828800"/>
          <a:ext cx="1243080" cy="304920"/>
        </p:xfrm>
        <a:graphic>
          <a:graphicData uri="http://schemas.openxmlformats.org/drawingml/2006/table">
            <a:tbl>
              <a:tblPr/>
              <a:tblGrid>
                <a:gridCol w="414360"/>
                <a:gridCol w="414360"/>
                <a:gridCol w="414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371600" y="1828800"/>
          <a:ext cx="2173320" cy="304560"/>
        </p:xfrm>
        <a:graphic>
          <a:graphicData uri="http://schemas.openxmlformats.org/drawingml/2006/table">
            <a:tbl>
              <a:tblPr/>
              <a:tblGrid>
                <a:gridCol w="414360"/>
                <a:gridCol w="414360"/>
                <a:gridCol w="414360"/>
                <a:gridCol w="465120"/>
                <a:gridCol w="4651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1371600" y="1828800"/>
          <a:ext cx="2587680" cy="304920"/>
        </p:xfrm>
        <a:graphic>
          <a:graphicData uri="http://schemas.openxmlformats.org/drawingml/2006/table">
            <a:tbl>
              <a:tblPr/>
              <a:tblGrid>
                <a:gridCol w="414360"/>
                <a:gridCol w="414360"/>
                <a:gridCol w="414360"/>
                <a:gridCol w="465120"/>
                <a:gridCol w="465120"/>
                <a:gridCol w="414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1676520" y="396252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Insgesamt in den Baum eingefügt wer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Alle Gene des Genoms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deren 24 verschied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Drehun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429000" y="4343400"/>
            <a:ext cx="914400" cy="9144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44956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808080"/>
                </a:solidFill>
                <a:uFillTx/>
                <a:latin typeface="Times New Roman"/>
              </a:rPr>
              <a:t>Regelinterpre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666880" y="1676520"/>
          <a:ext cx="2587680" cy="304560"/>
        </p:xfrm>
        <a:graphic>
          <a:graphicData uri="http://schemas.openxmlformats.org/drawingml/2006/table">
            <a:tbl>
              <a:tblPr/>
              <a:tblGrid>
                <a:gridCol w="414360"/>
                <a:gridCol w="414360"/>
                <a:gridCol w="414360"/>
                <a:gridCol w="465120"/>
                <a:gridCol w="465120"/>
                <a:gridCol w="414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3581280" y="4495680"/>
            <a:ext cx="3049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76720" y="44956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86200" y="4495680"/>
            <a:ext cx="304920" cy="3049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4648320"/>
            <a:ext cx="914400" cy="9144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819520" y="43434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733920" y="43434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819520" y="52578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733920" y="52578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581280" y="43430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43430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733920" y="46479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733920" y="50292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429000" y="53337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3124080" y="53337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52680" y="5334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5486400"/>
            <a:ext cx="304920" cy="3049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5486400"/>
            <a:ext cx="3049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68" idx="0"/>
          </p:cNvCxnSpPr>
          <p:nvPr/>
        </p:nvCxnSpPr>
        <p:spPr>
          <a:xfrm flipH="1" flipV="1">
            <a:off x="2874240" y="1980360"/>
            <a:ext cx="554760" cy="25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67" idx="0"/>
          </p:cNvCxnSpPr>
          <p:nvPr/>
        </p:nvCxnSpPr>
        <p:spPr>
          <a:xfrm flipH="1" flipV="1">
            <a:off x="3288600" y="1980360"/>
            <a:ext cx="445320" cy="25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69" idx="0"/>
          </p:cNvCxnSpPr>
          <p:nvPr/>
        </p:nvCxnSpPr>
        <p:spPr>
          <a:xfrm flipH="1" flipV="1">
            <a:off x="3703320" y="1980360"/>
            <a:ext cx="335520" cy="25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83" idx="2"/>
          </p:cNvCxnSpPr>
          <p:nvPr/>
        </p:nvCxnSpPr>
        <p:spPr>
          <a:xfrm flipH="1" flipV="1" rot="5400000">
            <a:off x="2036160" y="3219840"/>
            <a:ext cx="3810960" cy="1332360"/>
          </a:xfrm>
          <a:prstGeom prst="bentConnector3">
            <a:avLst>
              <a:gd name="adj1" fmla="val -424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82" idx="2"/>
          </p:cNvCxnSpPr>
          <p:nvPr/>
        </p:nvCxnSpPr>
        <p:spPr>
          <a:xfrm flipH="1" flipV="1" rot="5400000">
            <a:off x="2408400" y="3152160"/>
            <a:ext cx="3810960" cy="1467720"/>
          </a:xfrm>
          <a:prstGeom prst="bentConnector3">
            <a:avLst>
              <a:gd name="adj1" fmla="val -1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9" name=""/>
          <p:cNvSpPr/>
          <p:nvPr/>
        </p:nvSpPr>
        <p:spPr>
          <a:xfrm>
            <a:off x="2971080" y="594360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Sichtf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19520" y="487692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819520" y="5181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819520" y="5486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819520" y="49528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819520" y="4800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429000" y="4343400"/>
            <a:ext cx="914400" cy="9144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44956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808080"/>
                </a:solidFill>
                <a:uFillTx/>
                <a:latin typeface="Times New Roman"/>
              </a:rPr>
              <a:t>Regelinterpre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666880" y="1676520"/>
            <a:ext cx="2587680" cy="304560"/>
            <a:chOff x="2666880" y="1676520"/>
            <a:chExt cx="2587680" cy="304560"/>
          </a:xfrm>
        </p:grpSpPr>
        <p:sp>
          <p:nvSpPr>
            <p:cNvPr id="299" name=""/>
            <p:cNvSpPr/>
            <p:nvPr/>
          </p:nvSpPr>
          <p:spPr>
            <a:xfrm>
              <a:off x="3909960" y="1676520"/>
              <a:ext cx="465120" cy="30456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40200" y="1676520"/>
              <a:ext cx="414360" cy="30456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375080" y="1676520"/>
              <a:ext cx="465120" cy="30456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495600" y="1676520"/>
              <a:ext cx="414360" cy="30456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81240" y="1676520"/>
              <a:ext cx="414360" cy="30456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66880" y="1676520"/>
              <a:ext cx="414360" cy="30456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666880" y="1676520"/>
              <a:ext cx="2587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66880" y="1981080"/>
              <a:ext cx="2587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66880" y="1676520"/>
              <a:ext cx="0" cy="304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54560" y="1676520"/>
              <a:ext cx="0" cy="304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81240" y="1676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95600" y="1676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09960" y="1676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40200" y="1676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75080" y="1676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3581280" y="4495680"/>
            <a:ext cx="3049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76720" y="44956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4495680"/>
            <a:ext cx="304920" cy="3049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8120" y="4648320"/>
            <a:ext cx="914400" cy="9144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819520" y="43434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733920" y="43434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819520" y="52578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733920" y="52578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581280" y="43430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886200" y="43430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733920" y="46479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733920" y="50292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429000" y="53337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124080" y="53337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352680" y="5334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29000" y="5486400"/>
            <a:ext cx="304920" cy="3049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5486400"/>
            <a:ext cx="3049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"/>
          <p:cNvCxnSpPr>
            <a:stCxn id="315" idx="0"/>
            <a:endCxn id="304" idx="2"/>
          </p:cNvCxnSpPr>
          <p:nvPr/>
        </p:nvCxnSpPr>
        <p:spPr>
          <a:xfrm flipH="1" flipV="1">
            <a:off x="2874240" y="1980360"/>
            <a:ext cx="554760" cy="25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"/>
          <p:cNvCxnSpPr>
            <a:stCxn id="314" idx="0"/>
            <a:endCxn id="303" idx="2"/>
          </p:cNvCxnSpPr>
          <p:nvPr/>
        </p:nvCxnSpPr>
        <p:spPr>
          <a:xfrm flipH="1" flipV="1">
            <a:off x="3288600" y="1980360"/>
            <a:ext cx="445320" cy="25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3" name=""/>
          <p:cNvCxnSpPr>
            <a:stCxn id="316" idx="0"/>
            <a:endCxn id="302" idx="2"/>
          </p:cNvCxnSpPr>
          <p:nvPr/>
        </p:nvCxnSpPr>
        <p:spPr>
          <a:xfrm flipH="1" flipV="1">
            <a:off x="3703320" y="1980360"/>
            <a:ext cx="335520" cy="25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4" name=""/>
          <p:cNvCxnSpPr>
            <a:stCxn id="330" idx="2"/>
            <a:endCxn id="301" idx="2"/>
          </p:cNvCxnSpPr>
          <p:nvPr/>
        </p:nvCxnSpPr>
        <p:spPr>
          <a:xfrm flipH="1" flipV="1" rot="5400000">
            <a:off x="2036160" y="3219840"/>
            <a:ext cx="3810960" cy="1332360"/>
          </a:xfrm>
          <a:prstGeom prst="bentConnector3">
            <a:avLst>
              <a:gd name="adj1" fmla="val -424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5" name=""/>
          <p:cNvCxnSpPr>
            <a:stCxn id="329" idx="2"/>
            <a:endCxn id="300" idx="2"/>
          </p:cNvCxnSpPr>
          <p:nvPr/>
        </p:nvCxnSpPr>
        <p:spPr>
          <a:xfrm flipH="1" flipV="1" rot="5400000">
            <a:off x="2408400" y="3152160"/>
            <a:ext cx="3810960" cy="1467720"/>
          </a:xfrm>
          <a:prstGeom prst="bentConnector3">
            <a:avLst>
              <a:gd name="adj1" fmla="val -1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2971080" y="594360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Sichtf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19520" y="487692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819520" y="5181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2819520" y="5486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819520" y="49528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819520" y="4800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67480" y="1447920"/>
            <a:ext cx="228600" cy="2286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91320" y="220968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5880" y="2590920"/>
            <a:ext cx="22860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19920" y="44956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5880" y="304812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15000" y="4114800"/>
            <a:ext cx="22860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467480" y="2209680"/>
            <a:ext cx="228600" cy="22860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67480" y="4495680"/>
            <a:ext cx="228600" cy="22860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62920" y="4114800"/>
            <a:ext cx="228600" cy="22860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62920" y="2590920"/>
            <a:ext cx="228600" cy="22860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67480" y="3048120"/>
            <a:ext cx="228600" cy="22860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6019560" y="1676520"/>
            <a:ext cx="1447560" cy="533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0120" y="1676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19920" y="2438280"/>
            <a:ext cx="75960" cy="152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48520" y="281952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943240" y="3962520"/>
            <a:ext cx="152280" cy="152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943600" y="4343400"/>
            <a:ext cx="76320" cy="152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91520" y="3505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19920" y="3505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7391160" y="24382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91520" y="281952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391520" y="434340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7391160" y="39625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715000" y="5181480"/>
            <a:ext cx="828720" cy="304920"/>
            <a:chOff x="5715000" y="5181480"/>
            <a:chExt cx="828720" cy="304920"/>
          </a:xfrm>
        </p:grpSpPr>
        <p:sp>
          <p:nvSpPr>
            <p:cNvPr id="366" name=""/>
            <p:cNvSpPr/>
            <p:nvPr/>
          </p:nvSpPr>
          <p:spPr>
            <a:xfrm>
              <a:off x="5715000" y="5181480"/>
              <a:ext cx="414360" cy="304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129360" y="5181480"/>
              <a:ext cx="414360" cy="304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15000" y="5181480"/>
              <a:ext cx="828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15000" y="5486400"/>
              <a:ext cx="828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15000" y="5181480"/>
              <a:ext cx="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43720" y="5181480"/>
              <a:ext cx="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129360" y="51814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715000" y="5562720"/>
            <a:ext cx="828720" cy="304560"/>
            <a:chOff x="5715000" y="5562720"/>
            <a:chExt cx="828720" cy="304560"/>
          </a:xfrm>
        </p:grpSpPr>
        <p:sp>
          <p:nvSpPr>
            <p:cNvPr id="374" name=""/>
            <p:cNvSpPr/>
            <p:nvPr/>
          </p:nvSpPr>
          <p:spPr>
            <a:xfrm>
              <a:off x="5715000" y="5562720"/>
              <a:ext cx="414360" cy="30456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129360" y="5562720"/>
              <a:ext cx="414360" cy="30456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15000" y="5562720"/>
              <a:ext cx="828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15000" y="5867280"/>
              <a:ext cx="828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15000" y="5562720"/>
              <a:ext cx="0" cy="304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43720" y="5562720"/>
              <a:ext cx="0" cy="304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29360" y="55627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7162920" y="5181480"/>
            <a:ext cx="828720" cy="304920"/>
            <a:chOff x="7162920" y="5181480"/>
            <a:chExt cx="828720" cy="304920"/>
          </a:xfrm>
        </p:grpSpPr>
        <p:sp>
          <p:nvSpPr>
            <p:cNvPr id="382" name=""/>
            <p:cNvSpPr/>
            <p:nvPr/>
          </p:nvSpPr>
          <p:spPr>
            <a:xfrm>
              <a:off x="7162920" y="5181480"/>
              <a:ext cx="414360" cy="304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577280" y="5181480"/>
              <a:ext cx="414360" cy="304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62920" y="5181480"/>
              <a:ext cx="828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62920" y="5486400"/>
              <a:ext cx="828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162920" y="5181480"/>
              <a:ext cx="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991640" y="5181480"/>
              <a:ext cx="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577280" y="51814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6172200" y="4724280"/>
            <a:ext cx="0" cy="457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62012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808080"/>
                </a:solidFill>
                <a:uFillTx/>
                <a:latin typeface="Times New Roman"/>
              </a:rPr>
              <a:t>Bearbeitet du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6216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Times New Roman"/>
              </a:rPr>
              <a:t>Bernd Jä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Times New Roman"/>
              </a:rPr>
              <a:t>Susanne Halst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Times New Roman"/>
              </a:rPr>
              <a:t>Steffen Glücksel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Times New Roman"/>
              </a:rPr>
              <a:t>Clemens Mühlbe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Times New Roman"/>
              </a:rPr>
              <a:t>Jan Bann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Times New Roman"/>
              </a:rPr>
              <a:t>Daniel Schlos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Times New Roman"/>
              </a:rPr>
              <a:t>Dimitri Miss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808080"/>
                </a:solidFill>
                <a:uFillTx/>
                <a:latin typeface="Times New Roman"/>
              </a:rPr>
              <a:t>Betreut du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907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08080"/>
                </a:solidFill>
                <a:latin typeface="Times New Roman"/>
              </a:rPr>
              <a:t>Franziska Klüg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808080"/>
                </a:solidFill>
                <a:uFillTx/>
                <a:latin typeface="Times New Roman"/>
              </a:rPr>
              <a:t>Ziel des Projek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Times New Roman"/>
              </a:rPr>
              <a:t>Das Programm simuliert den Nestbau von sozia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Times New Roman"/>
              </a:rPr>
              <a:t>Insek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Times New Roman"/>
              </a:rPr>
              <a:t>Dazu werden mehrere Agenten mit ein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Times New Roman"/>
              </a:rPr>
              <a:t>Genom (= Regelsatz) ausgestattet. Diese bauen d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Times New Roman"/>
              </a:rPr>
              <a:t>anhand des ihnen vorgegebenen geneti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Times New Roman"/>
              </a:rPr>
              <a:t>Programms ein Nest, welches durch di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Times New Roman"/>
              </a:rPr>
              <a:t>dargestellt und in seiner Fitness bewertet wir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Times New Roman"/>
              </a:rPr>
              <a:t>Unter Berücksichtigung dieser zugeordneten Fi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Times New Roman"/>
              </a:rPr>
              <a:t>wird dann die nächste Generation von Ag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Times New Roman"/>
              </a:rPr>
              <a:t>erzeug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Times New Roman"/>
              </a:rPr>
              <a:t>Ziel ist es, einen beobachtbaren Evolutionsprozess z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Times New Roman"/>
              </a:rPr>
              <a:t>erzeu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808080"/>
                </a:solidFill>
                <a:uFillTx/>
                <a:latin typeface="Times New Roman"/>
              </a:rPr>
              <a:t>Module des Progra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286000"/>
            <a:ext cx="2133720" cy="129528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4419720"/>
            <a:ext cx="1828800" cy="99036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tis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rithm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4419720"/>
            <a:ext cx="1828800" cy="99036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elinterpr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4419720"/>
            <a:ext cx="1828800" cy="99036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1" idx="1"/>
            <a:endCxn id="52" idx="0"/>
          </p:cNvCxnSpPr>
          <p:nvPr/>
        </p:nvCxnSpPr>
        <p:spPr>
          <a:xfrm flipH="1">
            <a:off x="3047400" y="2933640"/>
            <a:ext cx="991080" cy="148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51" idx="3"/>
            <a:endCxn id="54" idx="0"/>
          </p:cNvCxnSpPr>
          <p:nvPr/>
        </p:nvCxnSpPr>
        <p:spPr>
          <a:xfrm>
            <a:off x="6171840" y="2933640"/>
            <a:ext cx="1067400" cy="148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2"/>
            <a:endCxn id="53" idx="0"/>
          </p:cNvCxnSpPr>
          <p:nvPr/>
        </p:nvCxnSpPr>
        <p:spPr>
          <a:xfrm>
            <a:off x="5105160" y="3580920"/>
            <a:ext cx="108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808080"/>
                </a:solidFill>
                <a:uFillTx/>
                <a:latin typeface="Times New Roman"/>
              </a:rPr>
              <a:t>Genetischer Algorithm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Der genetische Algorithmus besteht aus dre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Kompone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29718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1. Zufälliges Erzeugen von Regelsä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3733920"/>
            <a:ext cx="3276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2. Kreuzung von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Regelsä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46483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3. Mutation von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Regelsä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808080"/>
                </a:solidFill>
                <a:uFillTx/>
                <a:latin typeface="Times New Roman"/>
              </a:rPr>
              <a:t>One-Point Crossover zweier Gen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2819520"/>
            <a:ext cx="4267080" cy="45720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3505320"/>
            <a:ext cx="4267080" cy="45720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19810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1905120"/>
            <a:ext cx="1905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ufällig ausgewählter Kreuzungspun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3505320"/>
            <a:ext cx="19047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2819520"/>
            <a:ext cx="236232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5029200"/>
            <a:ext cx="19051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5029200"/>
            <a:ext cx="236232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666520" y="3962520"/>
            <a:ext cx="2286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3276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808080"/>
                </a:solidFill>
                <a:uFillTx/>
                <a:latin typeface="Times New Roman"/>
              </a:rPr>
              <a:t>Funktionsweise des Regelinterpr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Aufbau eines Gens: Pattern / Action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Multiagentensystem: alle Agenten mit gleichem Gen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019920" y="2057400"/>
          <a:ext cx="838080" cy="6062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Richt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Bau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1523880" y="32767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Drehen des Patterns mit Anpassen der Rich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3733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Einfügen dieser Pattern in den Ba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41911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Suchen des Sichtfelds im Ba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46483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Times New Roman"/>
              </a:rPr>
              <a:t>Gefundene Actions in Ergebnisliste eint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5105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Je nach Strategie Action aus Ergebnisliste wä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808080"/>
                </a:solidFill>
                <a:uFillTx/>
                <a:latin typeface="Times New Roman"/>
              </a:rPr>
              <a:t>Regelinterpre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371600" y="1828800"/>
            <a:ext cx="3416400" cy="304920"/>
            <a:chOff x="1371600" y="1828800"/>
            <a:chExt cx="3416400" cy="304920"/>
          </a:xfrm>
        </p:grpSpPr>
        <p:sp>
          <p:nvSpPr>
            <p:cNvPr id="84" name=""/>
            <p:cNvSpPr/>
            <p:nvPr/>
          </p:nvSpPr>
          <p:spPr>
            <a:xfrm>
              <a:off x="2614680" y="1828800"/>
              <a:ext cx="465120" cy="3049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959280" y="1828800"/>
              <a:ext cx="414360" cy="304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44920" y="1828800"/>
              <a:ext cx="414360" cy="3049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73640" y="1828800"/>
              <a:ext cx="414360" cy="304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79800" y="1828800"/>
              <a:ext cx="465120" cy="3049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00320" y="1828800"/>
              <a:ext cx="414360" cy="3049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85960" y="1828800"/>
              <a:ext cx="414360" cy="3049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71600" y="1828800"/>
              <a:ext cx="414360" cy="3049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71600" y="1828800"/>
              <a:ext cx="3416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71600" y="2133720"/>
              <a:ext cx="3416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71600" y="1828800"/>
              <a:ext cx="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88000" y="1828800"/>
              <a:ext cx="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85960" y="1828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00320" y="1828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14680" y="1828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44920" y="1828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959280" y="1828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73640" y="1828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79800" y="1828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7467480" y="1447920"/>
            <a:ext cx="228600" cy="2286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2209680"/>
            <a:ext cx="228600" cy="22860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2590920"/>
            <a:ext cx="228600" cy="22860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4495680"/>
            <a:ext cx="228600" cy="22860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3048120"/>
            <a:ext cx="228600" cy="22860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15000" y="4114800"/>
            <a:ext cx="228600" cy="22860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019560" y="1676520"/>
            <a:ext cx="14475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24382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4852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943240" y="39625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43434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3505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371600" y="1828800"/>
          <a:ext cx="414360" cy="304920"/>
        </p:xfrm>
        <a:graphic>
          <a:graphicData uri="http://schemas.openxmlformats.org/drawingml/2006/table">
            <a:tbl>
              <a:tblPr/>
              <a:tblGrid>
                <a:gridCol w="414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117" name=""/>
          <p:cNvGrpSpPr/>
          <p:nvPr/>
        </p:nvGrpSpPr>
        <p:grpSpPr>
          <a:xfrm>
            <a:off x="1371600" y="1828800"/>
            <a:ext cx="828720" cy="304560"/>
            <a:chOff x="1371600" y="1828800"/>
            <a:chExt cx="828720" cy="304560"/>
          </a:xfrm>
        </p:grpSpPr>
        <p:sp>
          <p:nvSpPr>
            <p:cNvPr id="118" name=""/>
            <p:cNvSpPr/>
            <p:nvPr/>
          </p:nvSpPr>
          <p:spPr>
            <a:xfrm>
              <a:off x="1785960" y="1828800"/>
              <a:ext cx="414360" cy="3045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71600" y="1828800"/>
              <a:ext cx="414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71600" y="1828800"/>
              <a:ext cx="828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2133360"/>
              <a:ext cx="828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71600" y="1828800"/>
              <a:ext cx="0" cy="304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0320" y="1828800"/>
              <a:ext cx="0" cy="304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5960" y="18288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371600" y="1828800"/>
            <a:ext cx="1708200" cy="304920"/>
            <a:chOff x="1371600" y="1828800"/>
            <a:chExt cx="1708200" cy="304920"/>
          </a:xfrm>
        </p:grpSpPr>
        <p:sp>
          <p:nvSpPr>
            <p:cNvPr id="126" name=""/>
            <p:cNvSpPr/>
            <p:nvPr/>
          </p:nvSpPr>
          <p:spPr>
            <a:xfrm>
              <a:off x="2614680" y="1828800"/>
              <a:ext cx="465120" cy="3049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00320" y="1828800"/>
              <a:ext cx="414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85960" y="1828800"/>
              <a:ext cx="414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1600" y="1828800"/>
              <a:ext cx="414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71600" y="1828800"/>
              <a:ext cx="1708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71600" y="2133720"/>
              <a:ext cx="1708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71600" y="1828800"/>
              <a:ext cx="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79800" y="1828800"/>
              <a:ext cx="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85960" y="1828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00320" y="1828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14680" y="1828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371600" y="1828800"/>
            <a:ext cx="1242720" cy="304920"/>
            <a:chOff x="1371600" y="1828800"/>
            <a:chExt cx="1242720" cy="304920"/>
          </a:xfrm>
        </p:grpSpPr>
        <p:sp>
          <p:nvSpPr>
            <p:cNvPr id="138" name=""/>
            <p:cNvSpPr/>
            <p:nvPr/>
          </p:nvSpPr>
          <p:spPr>
            <a:xfrm>
              <a:off x="2200320" y="1828800"/>
              <a:ext cx="414000" cy="3049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85960" y="1828800"/>
              <a:ext cx="414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71600" y="1828800"/>
              <a:ext cx="414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71600" y="1828800"/>
              <a:ext cx="1242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71600" y="2133720"/>
              <a:ext cx="1242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71600" y="1828800"/>
              <a:ext cx="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14320" y="1828800"/>
              <a:ext cx="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85960" y="1828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00320" y="1828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371600" y="1828800"/>
            <a:ext cx="2173320" cy="304560"/>
            <a:chOff x="1371600" y="1828800"/>
            <a:chExt cx="2173320" cy="304560"/>
          </a:xfrm>
        </p:grpSpPr>
        <p:sp>
          <p:nvSpPr>
            <p:cNvPr id="148" name=""/>
            <p:cNvSpPr/>
            <p:nvPr/>
          </p:nvSpPr>
          <p:spPr>
            <a:xfrm>
              <a:off x="2614680" y="1828800"/>
              <a:ext cx="465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79800" y="1828800"/>
              <a:ext cx="465120" cy="3045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00320" y="1828800"/>
              <a:ext cx="414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85960" y="1828800"/>
              <a:ext cx="414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71600" y="1828800"/>
              <a:ext cx="414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71600" y="1828800"/>
              <a:ext cx="21733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2133360"/>
              <a:ext cx="21733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71600" y="1828800"/>
              <a:ext cx="0" cy="304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44920" y="1828800"/>
              <a:ext cx="0" cy="304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85960" y="18288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00320" y="18288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14680" y="18288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79800" y="18288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371600" y="1828800"/>
            <a:ext cx="2587680" cy="304920"/>
            <a:chOff x="1371600" y="1828800"/>
            <a:chExt cx="2587680" cy="304920"/>
          </a:xfrm>
        </p:grpSpPr>
        <p:sp>
          <p:nvSpPr>
            <p:cNvPr id="162" name=""/>
            <p:cNvSpPr/>
            <p:nvPr/>
          </p:nvSpPr>
          <p:spPr>
            <a:xfrm>
              <a:off x="2614680" y="1828800"/>
              <a:ext cx="46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44920" y="1828800"/>
              <a:ext cx="414360" cy="3049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79800" y="1828800"/>
              <a:ext cx="46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00320" y="1828800"/>
              <a:ext cx="414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85960" y="1828800"/>
              <a:ext cx="414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71600" y="1828800"/>
              <a:ext cx="414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71600" y="1828800"/>
              <a:ext cx="2587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71600" y="2133720"/>
              <a:ext cx="2587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71600" y="1828800"/>
              <a:ext cx="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59280" y="1828800"/>
              <a:ext cx="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85960" y="1828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00320" y="1828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14680" y="1828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44920" y="1828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79800" y="1828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715000" y="5181480"/>
            <a:ext cx="828720" cy="304920"/>
            <a:chOff x="5715000" y="5181480"/>
            <a:chExt cx="828720" cy="304920"/>
          </a:xfrm>
        </p:grpSpPr>
        <p:sp>
          <p:nvSpPr>
            <p:cNvPr id="178" name=""/>
            <p:cNvSpPr/>
            <p:nvPr/>
          </p:nvSpPr>
          <p:spPr>
            <a:xfrm>
              <a:off x="5715000" y="5181480"/>
              <a:ext cx="414360" cy="304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29360" y="5181480"/>
              <a:ext cx="414360" cy="304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15000" y="5181480"/>
              <a:ext cx="828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5000" y="5486400"/>
              <a:ext cx="828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15000" y="5181480"/>
              <a:ext cx="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543720" y="5181480"/>
              <a:ext cx="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29360" y="51814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6T11:43:51Z</dcterms:created>
  <dc:creator>halstead</dc:creator>
  <dc:description/>
  <dc:language>en-US</dc:language>
  <cp:lastModifiedBy>Mühlberger</cp:lastModifiedBy>
  <dcterms:modified xsi:type="dcterms:W3CDTF">2001-07-23T21:31:50Z</dcterms:modified>
  <cp:revision>17</cp:revision>
  <dc:subject/>
  <dc:title>Swarm Architectures</dc:title>
</cp:coreProperties>
</file>